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10C9-636A-4942-8A5C-09E9A48243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B93B-907F-4FC3-BF92-374406086E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8259-964B-4D28-AA1E-EB2975A14A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3069-8242-4901-9F04-103D3BB60A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4C40-7846-48C7-845F-82D2F97F9F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8A9-D753-48E5-BFF5-1E015B44B7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D944-3A47-4D14-A724-2CD63FF0B8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190A-E406-49D1-9586-3A84502540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0882-E8BF-442A-8FA8-E2F0B73C06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8C33-1FE5-40B3-B831-CA2F019054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6B60-3855-4798-B691-741266C0B2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B6B7-5936-45E8-8664-7E6D0E4F19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6996-886E-4EA5-A1AC-8638296143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8E93-F96D-4806-B755-A2E9D3B633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2B47-A500-4CE0-BCB3-F6E63B3C97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CF8F-60CA-4FD8-A961-153DF84F90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7000" indent="0">
              <a:spcBef>
                <a:spcPts val="28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97000" indent="0"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2567-C6B4-4336-A85A-623EACCD17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F624-3767-410F-B263-FE604C745C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8AC-03B8-41C1-88B4-516B57BA32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B8E8-2E9F-4A41-A1C6-D93A95E824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1F5A-C9FD-4A0F-9039-232694B0D2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9B8A-F6B0-4C48-8A54-1A7E018349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4F24-D75B-4138-8258-E94E402C46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C212-8F81-44E9-AFAF-31F356432B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97DC-4B86-44D2-A78D-19D1DA359D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36CA-970B-4A0C-8EE9-BA16B31A6B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6EDF-EFC7-4B6F-867D-D3828F2C4C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5508-BA3B-4A2B-89DC-63359429DF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3231-2EC1-49C9-BA98-8881E8EB76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8041-D026-4EFE-8685-7FD466130E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6E4F-BC97-42C7-8A4E-5D17E088DD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C999-7607-4236-9807-60903138C7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0982-9CC3-4737-A464-E44E4630B8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9A8F-9AF1-4870-AE93-42FDC005C3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E6D-E71B-4DAB-8E1B-69E9AC33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F57-5B21-43BF-8A11-0F19A2DD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1E7-16F9-4D5B-B197-FD79463C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95E-5BDB-4257-92B5-38E13A85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9D61-78D3-4104-BC64-7B81EE30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95EE-37C8-4818-9925-F3B9FD09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F137-70CD-4850-9ED8-8A12898B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9271-4014-4520-95DB-45954032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EA47-00C2-49CE-99FA-0DC260E3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E56C-8F24-48F2-9B42-A8A89638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7A65-6A25-4429-A48D-BAB86B0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311-2C9C-474F-AB02-3B067C3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0DCF-CFF3-4F04-BE3D-FBA6235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92D-2532-4093-9775-57CC9525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9B12-13B8-4CEB-885B-0D769729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A5C8-CBD9-42D1-A9CA-18F017D1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F6AA-B26C-4126-BC5D-9AA494B4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4ED-9CA1-487A-8A2F-A627BB61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9D8-7AB5-4B8A-B305-4E7449D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378-9A7F-4737-9BA9-BAA49DA0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375-7E7C-4B96-9B2E-23FBBBA3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0C9-DC03-4FFC-B477-7608D4C7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B70-1F70-4121-B95A-2F51292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65B-EA40-4F75-AB2C-1A1CA6D2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EB96-3430-47C5-AD02-A65BF3C195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9A8B-C678-4CD3-B7FF-C9CDCC50AE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tiology, Classification and Diagnosis of Mental Disorder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aramond"/>
              </a:rPr>
              <a:t>MD, PhD, Milica M. Borovcanin, psychiatrist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tegrated Academic Studies of Medici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sychiat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chool Year 2023/202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Picture 46" descr=""/>
          <p:cNvPicPr/>
          <p:nvPr/>
        </p:nvPicPr>
        <p:blipFill>
          <a:blip r:embed="rId1"/>
          <a:stretch/>
        </p:blipFill>
        <p:spPr>
          <a:xfrm>
            <a:off x="3784680" y="76320"/>
            <a:ext cx="153648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ullivan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ity is "a relatively stable pattern of interpersonal situations that shape human life“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is no personality apart from its relationships with people – emphasizing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terpersonal relationship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tween peo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ity development does not end in early childhood, but i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ignificantly shaped in adolesc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Gestalt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"experience of the whole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es not depend only on its individual compone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quality of the whole is in fact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new synthe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ransactional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sonality is the structural and functional organization of three Ego states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parent ego stat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Nurturing or Critical Par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adult ego stat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aramond"/>
              </a:rPr>
              <a:t>The child ego stat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Free Child or Adapted Child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exchange of these stimuli between persons constitutes a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transac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ociety is an aggregate of personalities and it forces individuals to accept special roles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role theory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Behavioral 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are based on Pavlov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conditioned reflexe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basic learning theor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basic idea is that behavior is learned during life, that is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t is condition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sitive consequences of a behavior (rewards)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reinfor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behavior that caused them, and negative consequences of a behavior (punishments)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uppres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at behavi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Right Arrow 3"/>
          <p:cNvGrpSpPr/>
          <p:nvPr/>
        </p:nvGrpSpPr>
        <p:grpSpPr>
          <a:xfrm>
            <a:off x="7937640" y="5079960"/>
            <a:ext cx="1003320" cy="1117800"/>
            <a:chOff x="7937640" y="5079960"/>
            <a:chExt cx="1003320" cy="1117800"/>
          </a:xfrm>
        </p:grpSpPr>
        <p:pic>
          <p:nvPicPr>
            <p:cNvPr id="158" name="Right Arrow 3" descr=""/>
            <p:cNvPicPr/>
            <p:nvPr/>
          </p:nvPicPr>
          <p:blipFill>
            <a:blip r:embed="rId1"/>
            <a:stretch/>
          </p:blipFill>
          <p:spPr>
            <a:xfrm>
              <a:off x="7937640" y="5079960"/>
              <a:ext cx="100332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5400000">
              <a:off x="8086320" y="5308560"/>
              <a:ext cx="758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ight Arrow 4"/>
          <p:cNvGrpSpPr/>
          <p:nvPr/>
        </p:nvGrpSpPr>
        <p:grpSpPr>
          <a:xfrm>
            <a:off x="7988400" y="3301920"/>
            <a:ext cx="1003320" cy="1117800"/>
            <a:chOff x="7988400" y="3301920"/>
            <a:chExt cx="1003320" cy="1117800"/>
          </a:xfrm>
        </p:grpSpPr>
        <p:pic>
          <p:nvPicPr>
            <p:cNvPr id="161" name="Right Arrow 4" descr=""/>
            <p:cNvPicPr/>
            <p:nvPr/>
          </p:nvPicPr>
          <p:blipFill>
            <a:blip r:embed="rId2"/>
            <a:stretch/>
          </p:blipFill>
          <p:spPr>
            <a:xfrm>
              <a:off x="7988400" y="3301920"/>
              <a:ext cx="100332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16200000">
              <a:off x="8085960" y="3753000"/>
              <a:ext cx="7585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llport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raits not only show the way, relative consistency in behavior, but also encourage the personality to a certain activity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(motivational character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t is possible that something that a person did out of biological necessity later becomes an independent driving forc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What was previously a means to satisfy a certain biological motive has become an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autonomous, independent motiv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go Psychological The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Hartmann'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go psychological theory of personality considers that the Ego has other functions besides those attributed to it by Freud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e goals of Ego are not always related to conscious goal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go defenses are not always pathologica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pecial attention is paid to adapting the Ego to the environ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aslow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elf-actualization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 an ideal goal, striving for the fullest realization of one's own possi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erson who has reach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his/her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ull potential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 is self-actualiz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rikson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Garamond"/>
              </a:rPr>
              <a:t>P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rsonality </a:t>
            </a:r>
            <a:r>
              <a:rPr b="1" lang="sr-Latn-RS" sz="2800" spc="-1" strike="noStrike">
                <a:solidFill>
                  <a:srgbClr val="c00000"/>
                </a:solidFill>
                <a:latin typeface="Garamond"/>
              </a:rPr>
              <a:t>is understood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s a continuous proces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at goes through stages, which somewhat coincide with Freud's sta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anges with characteristic signs (development) continu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until old a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Biological Basis of Human Behavior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pleasure principle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organism tries to find the greatest possible pleasure, while at the same time avoiding discomfor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leasure principle is modified by life experi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modification of the pleasure principle is called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reality princi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heory of Unconscious Motiv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uman being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re not always awar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f the motives and goals of their behavio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1900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 on the unconscious psych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eaching on repre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1923: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eud on Id, Ego and Supereg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Personality traits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way of behaving and reacting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Temperament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ode of emotional response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96720" indent="-39672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Garamond"/>
              </a:rPr>
              <a:t>Character</a:t>
            </a:r>
            <a:r>
              <a:rPr b="1" lang="en-US" sz="3000" spc="-1" strike="noStrike">
                <a:solidFill>
                  <a:srgbClr val="c00000"/>
                </a:solidFill>
                <a:latin typeface="Garamond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volitional and moral characteristic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Mental Life of Human Being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consists of two basic parts: conscious and un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conscious part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courages a person to take action guided by the principle of satisfaction and secur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unconsciou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which desires and other contents are suppressed, is also active and stimulates a person to ac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Arbitrary Division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8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5292720" y="1989000"/>
            <a:ext cx="3600360" cy="2654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c impulses and pa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ological</a:t>
            </a:r>
            <a:r>
              <a:rPr b="0" lang="sr-Latn-RS" sz="2400" spc="-1" strike="noStrike">
                <a:solidFill>
                  <a:srgbClr val="ffffff"/>
                </a:solidFill>
                <a:latin typeface="Garamond"/>
              </a:rPr>
              <a:t> 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s on the pleasure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7579440" y="58053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l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292720" y="2924280"/>
            <a:ext cx="3600360" cy="3751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ys of performing tasks from the Id, Superego and 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thesis of personal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rates according to the principle of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5292720" y="4365720"/>
            <a:ext cx="3600360" cy="3020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valu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function of self-observer and 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Ego ideal as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Conflict The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7" name="Diagram 3" descr=""/>
          <p:cNvPicPr/>
          <p:nvPr/>
        </p:nvPicPr>
        <p:blipFill>
          <a:blip r:embed="rId1"/>
          <a:stretch/>
        </p:blipFill>
        <p:spPr>
          <a:xfrm>
            <a:off x="241200" y="546120"/>
            <a:ext cx="8293320" cy="6121440"/>
          </a:xfrm>
          <a:prstGeom prst="rect">
            <a:avLst/>
          </a:prstGeom>
          <a:ln w="0">
            <a:noFill/>
          </a:ln>
        </p:spPr>
      </p:pic>
      <p:grpSp>
        <p:nvGrpSpPr>
          <p:cNvPr id="188" name="Left-Right Arrow 4"/>
          <p:cNvGrpSpPr/>
          <p:nvPr/>
        </p:nvGrpSpPr>
        <p:grpSpPr>
          <a:xfrm>
            <a:off x="2413080" y="4038480"/>
            <a:ext cx="863640" cy="609840"/>
            <a:chOff x="2413080" y="4038480"/>
            <a:chExt cx="863640" cy="609840"/>
          </a:xfrm>
        </p:grpSpPr>
        <p:pic>
          <p:nvPicPr>
            <p:cNvPr id="189" name="Left-Right Arrow 4" descr=""/>
            <p:cNvPicPr/>
            <p:nvPr/>
          </p:nvPicPr>
          <p:blipFill>
            <a:blip r:embed="rId2"/>
            <a:stretch/>
          </p:blipFill>
          <p:spPr>
            <a:xfrm>
              <a:off x="2413080" y="4038480"/>
              <a:ext cx="8636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604960" y="4199040"/>
              <a:ext cx="478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Left-Right Arrow 6"/>
          <p:cNvGrpSpPr/>
          <p:nvPr/>
        </p:nvGrpSpPr>
        <p:grpSpPr>
          <a:xfrm>
            <a:off x="7645320" y="1422360"/>
            <a:ext cx="609840" cy="2146320"/>
            <a:chOff x="7645320" y="1422360"/>
            <a:chExt cx="609840" cy="2146320"/>
          </a:xfrm>
        </p:grpSpPr>
        <p:pic>
          <p:nvPicPr>
            <p:cNvPr id="192" name="Left-Right Arrow 6" descr=""/>
            <p:cNvPicPr/>
            <p:nvPr/>
          </p:nvPicPr>
          <p:blipFill>
            <a:blip r:embed="rId3"/>
            <a:stretch/>
          </p:blipFill>
          <p:spPr>
            <a:xfrm>
              <a:off x="7645320" y="1422360"/>
              <a:ext cx="6098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5400000">
              <a:off x="7095960" y="2371680"/>
              <a:ext cx="177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7"/>
          <p:cNvSpPr/>
          <p:nvPr/>
        </p:nvSpPr>
        <p:spPr>
          <a:xfrm>
            <a:off x="-44640" y="836640"/>
            <a:ext cx="41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Left-Right Arrow 8"/>
          <p:cNvGrpSpPr/>
          <p:nvPr/>
        </p:nvGrpSpPr>
        <p:grpSpPr>
          <a:xfrm>
            <a:off x="723960" y="1206360"/>
            <a:ext cx="952560" cy="1244880"/>
            <a:chOff x="723960" y="1206360"/>
            <a:chExt cx="952560" cy="1244880"/>
          </a:xfrm>
        </p:grpSpPr>
        <p:pic>
          <p:nvPicPr>
            <p:cNvPr id="196" name="Left-Right Arrow 8" descr=""/>
            <p:cNvPicPr/>
            <p:nvPr/>
          </p:nvPicPr>
          <p:blipFill>
            <a:blip r:embed="rId4"/>
            <a:stretch/>
          </p:blipFill>
          <p:spPr>
            <a:xfrm>
              <a:off x="723960" y="1206360"/>
              <a:ext cx="95256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3882600">
              <a:off x="764640" y="1710000"/>
              <a:ext cx="8683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Left-Right Arrow 9"/>
          <p:cNvGrpSpPr/>
          <p:nvPr/>
        </p:nvGrpSpPr>
        <p:grpSpPr>
          <a:xfrm>
            <a:off x="2489040" y="5842080"/>
            <a:ext cx="851040" cy="609480"/>
            <a:chOff x="2489040" y="5842080"/>
            <a:chExt cx="851040" cy="609480"/>
          </a:xfrm>
        </p:grpSpPr>
        <p:pic>
          <p:nvPicPr>
            <p:cNvPr id="199" name="Left-Right Arrow 9" descr=""/>
            <p:cNvPicPr/>
            <p:nvPr/>
          </p:nvPicPr>
          <p:blipFill>
            <a:blip r:embed="rId5"/>
            <a:stretch/>
          </p:blipFill>
          <p:spPr>
            <a:xfrm>
              <a:off x="2489040" y="5842080"/>
              <a:ext cx="851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676600" y="5999040"/>
              <a:ext cx="4777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Role of Conflict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flicts produce discomfort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nxie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poor personality functioning (dysfunctionality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are solved by overlooking one of the conflicting elements, that is,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xcluding it from the conscious part of the psych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uppression mechanism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used to exclude content or memories that cause discomfort or pain from the conscious part of the persona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uppress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done either by the Superego, or it is done by the Ego at its behest, which in that case is submissive to i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voluntary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clusion of conflicting or unpleasant thoughts, memories or impulses from conscious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is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primary Ego defense mechanism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other mechanisms only reinforce the suppress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evels of consciousness relevant to suppression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e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ub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nconsci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07" name="Right Arrow 3"/>
          <p:cNvGrpSpPr/>
          <p:nvPr/>
        </p:nvGrpSpPr>
        <p:grpSpPr>
          <a:xfrm>
            <a:off x="4064040" y="2019240"/>
            <a:ext cx="1003320" cy="711360"/>
            <a:chOff x="4064040" y="2019240"/>
            <a:chExt cx="1003320" cy="711360"/>
          </a:xfrm>
        </p:grpSpPr>
        <p:pic>
          <p:nvPicPr>
            <p:cNvPr id="208" name="Right Arrow 3" descr=""/>
            <p:cNvPicPr/>
            <p:nvPr/>
          </p:nvPicPr>
          <p:blipFill>
            <a:blip r:embed="rId1"/>
            <a:stretch/>
          </p:blipFill>
          <p:spPr>
            <a:xfrm>
              <a:off x="4064040" y="20192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5400000">
              <a:off x="4371480" y="2085840"/>
              <a:ext cx="432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ight Arrow 4"/>
          <p:cNvGrpSpPr/>
          <p:nvPr/>
        </p:nvGrpSpPr>
        <p:grpSpPr>
          <a:xfrm>
            <a:off x="4064040" y="3174840"/>
            <a:ext cx="1003320" cy="711360"/>
            <a:chOff x="4064040" y="3174840"/>
            <a:chExt cx="1003320" cy="711360"/>
          </a:xfrm>
        </p:grpSpPr>
        <p:pic>
          <p:nvPicPr>
            <p:cNvPr id="211" name="Right Arrow 4" descr=""/>
            <p:cNvPicPr/>
            <p:nvPr/>
          </p:nvPicPr>
          <p:blipFill>
            <a:blip r:embed="rId2"/>
            <a:stretch/>
          </p:blipFill>
          <p:spPr>
            <a:xfrm>
              <a:off x="4064040" y="317484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rot="5400000">
              <a:off x="4371840" y="3238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ight Arrow 5"/>
          <p:cNvGrpSpPr/>
          <p:nvPr/>
        </p:nvGrpSpPr>
        <p:grpSpPr>
          <a:xfrm>
            <a:off x="4064040" y="4178160"/>
            <a:ext cx="1003320" cy="711360"/>
            <a:chOff x="4064040" y="4178160"/>
            <a:chExt cx="1003320" cy="711360"/>
          </a:xfrm>
        </p:grpSpPr>
        <p:pic>
          <p:nvPicPr>
            <p:cNvPr id="214" name="Right Arrow 5" descr=""/>
            <p:cNvPicPr/>
            <p:nvPr/>
          </p:nvPicPr>
          <p:blipFill>
            <a:blip r:embed="rId3"/>
            <a:stretch/>
          </p:blipFill>
          <p:spPr>
            <a:xfrm>
              <a:off x="4064040" y="4178160"/>
              <a:ext cx="10033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5400000">
              <a:off x="4371840" y="4246560"/>
              <a:ext cx="431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10"/>
          <p:cNvSpPr/>
          <p:nvPr/>
        </p:nvSpPr>
        <p:spPr>
          <a:xfrm>
            <a:off x="971640" y="587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ergy consumption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(counterinves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Importance of Ego-Defense Mechanism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sychic phenomena used to support the suppression proc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rimary function of Ego-defense mechanisms is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educing anxiety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rotection of the Ego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upporting suppression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ories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 functions in his totality, trying to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integrate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herited nature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dividual personality development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vents of everyday life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The formative importance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f one of the facto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ories of personality were created as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synthesi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f psychological studies and find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15920"/>
          <a:ext cx="8640720" cy="6653160"/>
        </p:xfrm>
        <a:graphic>
          <a:graphicData uri="http://schemas.openxmlformats.org/drawingml/2006/table">
            <a:tbl>
              <a:tblPr/>
              <a:tblGrid>
                <a:gridCol w="3141720"/>
                <a:gridCol w="5499000"/>
              </a:tblGrid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o defense mechanis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plan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li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weakening of one instinctive impulse by using th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nergy of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roj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ssimilation of the objec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o one's own Ego or Super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dentif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consciou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cceptance of another person's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titu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replacing the objec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with which the instinctive impulses are satis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ation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epting or resorting to a socially acceptable, more or les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logical explana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or actions or decisions that are actually produced by unconscious im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active 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ing to the other extreme,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the opposi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overcompensation for unacceptable im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j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 person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attributes his own thoughts, emotions or impulses to another pers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localizes them in the objects of the external wo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0d0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gr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he tendency for the personality to return to an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earlier situ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, which is more pleasant, because the current situation is painful, unbear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ages in Psychosexual and Psychosocial developmen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2" name="Content Placeholder 3" descr=""/>
          <p:cNvPicPr/>
          <p:nvPr/>
        </p:nvPicPr>
        <p:blipFill>
          <a:blip r:embed="rId1"/>
          <a:stretch/>
        </p:blipFill>
        <p:spPr>
          <a:xfrm>
            <a:off x="-12600" y="1689120"/>
            <a:ext cx="8889840" cy="16765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79280" y="3429000"/>
            <a:ext cx="172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pa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sucking, addi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biting, aggression, sad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nore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lcoh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12600" y="3059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1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2nd year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       3-6 years              7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s 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    11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1908000" y="3500280"/>
            <a:ext cx="17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expulsive </a:t>
            </a:r>
            <a:r>
              <a:rPr b="1" lang="sr-Latn-RS" sz="1800" spc="-1" strike="noStrike">
                <a:solidFill>
                  <a:srgbClr val="c00000"/>
                </a:solidFill>
                <a:latin typeface="Garamond"/>
                <a:ea typeface="Arial"/>
              </a:rPr>
              <a:t>stage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</a:t>
            </a:r>
            <a:r>
              <a:rPr b="0" lang="sr-Latn-RS" sz="1800" spc="-1" strike="noStrike">
                <a:solidFill>
                  <a:srgbClr val="000000"/>
                </a:solidFill>
                <a:latin typeface="Garamond"/>
                <a:ea typeface="Arial"/>
              </a:rPr>
              <a:t>expulsiv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retention </a:t>
            </a:r>
            <a:r>
              <a:rPr b="1" lang="sr-Latn-RS" sz="1800" spc="-1" strike="noStrike">
                <a:solidFill>
                  <a:srgbClr val="c00000"/>
                </a:solidFill>
                <a:latin typeface="Garamond"/>
                <a:ea typeface="Arial"/>
              </a:rPr>
              <a:t>stage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(reten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obsessive-compuls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ersonality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3708360" y="3500280"/>
            <a:ext cx="17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oedipal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primal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castration f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frigidity, anorgasmia, impo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anxiety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5364000" y="350028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same-sex friendshi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7164360" y="3500280"/>
            <a:ext cx="172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early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middl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lat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dependence -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Garamond"/>
                <a:ea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n Objective View in Psychiat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non-compliance of psychiatrists in the process of diagnosis showed significant differenc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 attempt to minimize the subjectivity of psychiatrist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cise diagnostic principles and minimum symptoms that should be determined for each nosological unit have been elaborat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lassification of Mental Disorde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413000"/>
            <a:ext cx="8507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thoanatomical classification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organic and functional mental disorder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ccording to etiology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endogenous and exogenous mental disorder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mptomatic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chogenic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active mental disord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0720" y="5601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lassification of Mental Disord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Based on Clinical Phenomenolog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680" y="1717560"/>
            <a:ext cx="438948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ernational Classification of Diseases and Related Health Problems,</a:t>
            </a:r>
            <a:r>
              <a:rPr b="1" lang="sr-Latn-R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revision (ICD-10)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World Health Organiz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6280" y="3197160"/>
            <a:ext cx="40399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00-F99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6000" y="1862280"/>
            <a:ext cx="42483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Diagnostic and Statistical Manual, 5th Revision – DSM-5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erican Psychiatric Associ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7" name="Content Placeholder 9" descr="index.jpg"/>
          <p:cNvPicPr/>
          <p:nvPr/>
        </p:nvPicPr>
        <p:blipFill>
          <a:blip r:embed="rId1"/>
          <a:stretch/>
        </p:blipFill>
        <p:spPr>
          <a:xfrm>
            <a:off x="5219640" y="4221000"/>
            <a:ext cx="2895840" cy="1581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mage result for mkb 10"/>
          <p:cNvPicPr/>
          <p:nvPr/>
        </p:nvPicPr>
        <p:blipFill>
          <a:blip r:embed="rId2"/>
          <a:stretch/>
        </p:blipFill>
        <p:spPr>
          <a:xfrm>
            <a:off x="1765440" y="377352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Oval 8"/>
          <p:cNvSpPr/>
          <p:nvPr/>
        </p:nvSpPr>
        <p:spPr>
          <a:xfrm>
            <a:off x="357120" y="1197000"/>
            <a:ext cx="3422880" cy="874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ntal and behavioral disorders are the result of complex interactions between biological, psychological and social factor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Mental, physical and social health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re interwined and interdependent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4572000" y="2235240"/>
            <a:ext cx="4572000" cy="4140000"/>
          </a:xfrm>
          <a:prstGeom prst="rect">
            <a:avLst/>
          </a:prstGeom>
          <a:ln w="0">
            <a:noFill/>
          </a:ln>
        </p:spPr>
      </p:pic>
      <p:cxnSp>
        <p:nvCxnSpPr>
          <p:cNvPr id="242" name="Straight Arrow Connector 5"/>
          <p:cNvCxnSpPr/>
          <p:nvPr/>
        </p:nvCxnSpPr>
        <p:spPr>
          <a:xfrm>
            <a:off x="1835280" y="2060640"/>
            <a:ext cx="5023080" cy="2448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agnosis of mental disorder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amnesi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utoanamnes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data is obtained from the patient himself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heteroanamnes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taking data from another person, family member or friend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re direct and active conducting of interviews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simulation – aggravation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sychiatric interview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therapist is the main weapon of the interview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the first meeting, the therapist'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mpath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especially importa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rbal and non-verbal communic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"/>
          <p:cNvPicPr/>
          <p:nvPr/>
        </p:nvPicPr>
        <p:blipFill>
          <a:blip r:embed="rId1"/>
          <a:stretch/>
        </p:blipFill>
        <p:spPr>
          <a:xfrm>
            <a:off x="457200" y="241200"/>
            <a:ext cx="82296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Outline of Psychiatric Histor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dentifying dat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ief complai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story of Present Ill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sonal hi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mily histo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agram 3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5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ental Status Examin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General Appearance and Behavior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Speech Characteristic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onsciousness and Orienta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ttention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ception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Think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ntelligenc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motions (Mood and Affect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ge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Willpower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lang="sr-RS" sz="2600" spc="-1" strike="noStrike">
                <a:solidFill>
                  <a:srgbClr val="c00000"/>
                </a:solidFill>
                <a:latin typeface="Garamond"/>
              </a:rPr>
              <a:t>10.</a:t>
            </a:r>
            <a:r>
              <a:rPr b="0" lang="sr-R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ralit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Insight and Judgemen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omplementary methods in the examination of mental disord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Psychological tests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Garamond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titude test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ersonality tests (questionnaires and projective test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cialized tests for examination of certain psychological functions and certain clinical syndromes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Physico-biological auxiliary diagnostic methods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(biochemical analyzes of blood or urine, brain visualization methods, neurophysiological tests, genetic markers...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Neuroplastic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earlier dogma that the adult brain cannot produce new neurons through experiments has been challeng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animals, in the regions responsible for learning and memory, new neurons can be formed in adulthoo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Brain plasticity refers to its ability to change – to respond to stimul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It is manifested by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vascul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synapt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aramond"/>
              </a:rPr>
              <a:t>neurogenesis</a:t>
            </a:r>
            <a:r>
              <a:rPr b="0" lang="sr-R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Cogni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Specific functions and processes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ercep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tten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hape recognitio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mor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rmation of concept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3008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nguag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Personality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s a unique organization of traits, formed by the action of the organism and the social environment, and determines a unique way of behav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n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integrative approach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is needed in looking at the possible etiological factors that caused the emergence of mental disorder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urrently, in our country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the application of ICD-10 for diagnosing mental disorders is legally binding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Garamond"/>
              </a:rPr>
              <a:t>"psychiatry is best learned from intelligent patients"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reud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came the basis of an entire therapeutic system known as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xposes th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unconscious confli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Adler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n's basic aspiration is striving for superiority: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”The Will to Power"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influence of Nietzsche's philosoph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 emphasized the role of the conscious part of the personality, as well as the importance of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environmental facto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67920" indent="-367920">
              <a:spcBef>
                <a:spcPts val="36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t the base of the will to power is not sexuality, but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ggressive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Jung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addition to the Ego and the personal unconscious, there is also a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collective unconsciou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ithin the persona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collective unconscious is a collection of latent memory traces inherited from the human pas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tructural components of the collective unconscious are </a:t>
            </a: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archetyp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universal forms of human thoughts and ide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Horney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"Basic anxiety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– the child's feeling of helpless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child is helpless in a collision with parental author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"Neurotic needs"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re formed, as an attempt to adapt and overcome basic anxie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08240" indent="-408240">
              <a:lnSpc>
                <a:spcPct val="90000"/>
              </a:lnSpc>
              <a:spcBef>
                <a:spcPts val="40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these needs dominate the individual, then they are pathologic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romm’s Theory of Persona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The personality is shaped by relations with the whole societ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The need for association, for status in society, for a sense of identity, for creativity etc. plays an important role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421920" indent="-421920">
              <a:lnSpc>
                <a:spcPct val="90000"/>
              </a:lnSpc>
              <a:spcBef>
                <a:spcPts val="40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Garamond"/>
              </a:rPr>
              <a:t>"sentenced to freedom"           "the art of love”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6" name="Right Arrow 4"/>
          <p:cNvGrpSpPr/>
          <p:nvPr/>
        </p:nvGrpSpPr>
        <p:grpSpPr>
          <a:xfrm>
            <a:off x="4356000" y="5486400"/>
            <a:ext cx="1117800" cy="1003320"/>
            <a:chOff x="4356000" y="5486400"/>
            <a:chExt cx="1117800" cy="1003320"/>
          </a:xfrm>
        </p:grpSpPr>
        <p:pic>
          <p:nvPicPr>
            <p:cNvPr id="147" name="Right Arrow 4" descr=""/>
            <p:cNvPicPr/>
            <p:nvPr/>
          </p:nvPicPr>
          <p:blipFill>
            <a:blip r:embed="rId1"/>
            <a:stretch/>
          </p:blipFill>
          <p:spPr>
            <a:xfrm>
              <a:off x="4356000" y="5486400"/>
              <a:ext cx="11178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7640" y="5735520"/>
              <a:ext cx="760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9T10:21:24Z</dcterms:created>
  <dc:creator>Milica Borovcanin</dc:creator>
  <dc:description/>
  <dc:language>en-US</dc:language>
  <cp:lastModifiedBy>Milica Borovcanin</cp:lastModifiedBy>
  <dcterms:modified xsi:type="dcterms:W3CDTF">2024-02-13T22:57:48Z</dcterms:modified>
  <cp:revision>79</cp:revision>
  <dc:subject/>
  <dc:title>Slide 1</dc:title>
</cp:coreProperties>
</file>